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622-723F-46A2-9F7B-1E5AA289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A23-4977-41DB-9B68-E9B29727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25B8-F481-468A-B41A-C2977121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5DC-8B77-4509-90FB-0C615C5F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C79-BAEE-43B3-A543-97F5EB8D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9F0-2269-401D-A21A-B09C2C35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47C-D0FE-4217-B82E-F2757DD3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24E-D09A-40CF-84CE-3F549D3C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FAE-AB4C-4357-890B-C73D9316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230-3364-40D6-B4F1-6AC8E866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F7F-2E24-4795-B94C-BDA37EFB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0AB-3AE8-4911-B0CA-A5563F27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9F9E-F3F8-4915-8522-A04644F0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23B8-77FA-4ECF-9F28-A86E14A1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821F-4C93-4D02-96C0-B844B960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1A57-CC2C-4078-B85C-10E0FBB3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00AC-6A19-4A46-9A24-80A4264B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2664-3695-4F78-81EB-568807D0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36C0-EA6D-4671-834F-E3F41D74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8D4A-59DA-45B0-B9DC-6E27CA75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4567-7494-47B7-A3B2-004CE0FC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DC2B-EDB3-47BC-B5C7-3FD3FA0F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CD7A-5B8A-407E-A85E-FEB3F00B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9DD7-14CA-4E73-93A8-AC44AB7C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CD833-3617-4BE7-BC7A-D95C900A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EA967-1D57-4E0D-A9DF-07AE7004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3541-5EB8-4C10-B54A-DC93F5B1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030F1-98E0-485C-86A7-C685C320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FBDCF-C228-45D3-A4F3-4216D819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018F9-724B-479F-9C80-5C4777B8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4D339-99F3-465A-9960-68620AD5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3D3C7-F3E6-4DDF-8841-3BC099EE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62E4-B348-4155-A5C8-DCEBB2B4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A55E-2F10-45B1-BD40-8B94A17D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C313-2D29-441C-B567-86E09F0E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3DCCB-BA65-4376-8E46-FB783719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D0E8D-11EB-4C5B-BC81-29064E2F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DB24-E8B0-4822-978A-3A9A7BFE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03946-7D5A-48BF-8E60-9DFE7116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59AD6-B85D-48AA-A692-23972E41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46563-4B20-4C31-A49C-BB86E0F4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5934-ADD1-4440-A463-2DEADFB9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AD209-5AC1-499D-AE20-3EF1847F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74034-B901-47EA-A3A3-3C29227C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E4D4-08E5-4E95-9108-82D53BA1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ECF4D-FACF-43F7-9786-4713E157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92CD9-1ABD-42D4-A390-D556E54F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1C8C-9C2F-45ED-AC47-C0FFABCC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419040"/>
            <a:ext cx="5867280" cy="5942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0" y="411120"/>
            <a:ext cx="0" cy="5943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1553760" y="411120"/>
            <a:ext cx="3017880" cy="3017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0" y="411120"/>
            <a:ext cx="2879640" cy="3017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54120" y="3429000"/>
            <a:ext cx="3017880" cy="2925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571640" y="3429000"/>
            <a:ext cx="2879640" cy="2925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3063960" y="411120"/>
            <a:ext cx="0" cy="1509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600200" y="1920960"/>
            <a:ext cx="1463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5989680" y="411120"/>
            <a:ext cx="0" cy="1509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989680" y="4892760"/>
            <a:ext cx="14619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063960" y="1920960"/>
            <a:ext cx="2925720" cy="2925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3063600" y="1920960"/>
            <a:ext cx="2925720" cy="297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1554120" y="4892760"/>
            <a:ext cx="1463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5989680" y="1920960"/>
            <a:ext cx="14637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 flipV="1">
            <a:off x="3063960" y="4846680"/>
            <a:ext cx="0" cy="1509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V="1">
            <a:off x="5989680" y="4846680"/>
            <a:ext cx="0" cy="1509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5943600"/>
            <a:ext cx="96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2471-B028-4969-B536-0964C87AF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GailLovel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166E-8B03-43ED-9B5C-339FC8F0F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GailLovel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3F37-4531-4FAA-B043-4AF883E37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AB74-3711-4DCB-B512-6E235955B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8488200">
            <a:off x="1729800" y="110772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3211400">
            <a:off x="6084720" y="1063440"/>
            <a:ext cx="13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9056600">
            <a:off x="5986800" y="524628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667600">
            <a:off x="1786680" y="534168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2961360" y="830520"/>
            <a:ext cx="7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5119200" y="592200"/>
            <a:ext cx="77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84840" y="2138400"/>
            <a:ext cx="77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Fi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5372280" y="571860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205740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in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2922120" y="571680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6629040" y="446148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1645920" y="4507560"/>
            <a:ext cx="7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4160880" y="1325160"/>
            <a:ext cx="2332080" cy="11448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the major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4022640" y="4297320"/>
            <a:ext cx="2332080" cy="11448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is the tit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54520" y="2057400"/>
            <a:ext cx="2514600" cy="13716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the text featur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2057400"/>
            <a:ext cx="2697120" cy="123516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ne fact &amp; one opinion from th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4892760" y="3611160"/>
            <a:ext cx="2239920" cy="118908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re/ When does the article take plac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0800000">
            <a:off x="1874880" y="3473280"/>
            <a:ext cx="2332080" cy="114480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or what is the article ab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2652480" y="1371600"/>
            <a:ext cx="2332080" cy="11444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the minor detail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2652480" y="4297320"/>
            <a:ext cx="2332080" cy="114444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uthor’s purpos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6550200" y="456048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ww.GailLovel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6006960"/>
            <a:ext cx="9604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otie Catcher or Fortune Teller – to fill-in on comput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0200" y="3429000"/>
            <a:ext cx="5761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 rot="16200000">
            <a:off x="6550200" y="456048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www.GailLovel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6006960"/>
            <a:ext cx="96048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otie Catcher or Fortune Teller – to complete by han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to Make a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tune Teller or Cootie Catcher…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ing text into the template (slide 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le-click (click 3 times quickly) in each area and type you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wish, you can print the “empty” template (slide two) and have students handwrite or draw thei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laps (labeled A, B, C, and D) are the outermost choices… these are often color words – remember you can change this text to color if you will be printing in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tions (labeled 1 – 8) are the second choices and these are often numerals or number 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tunes (labeled Fortune1 – Fortune8) are where you type your SHORT messages. (You can adjust the font size if you need to fit mor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Cootie Catcher Directions"/>
          <p:cNvPicPr/>
          <p:nvPr/>
        </p:nvPicPr>
        <p:blipFill>
          <a:blip r:embed="rId1"/>
          <a:srcRect l="68389" t="49046" r="7194" b="0"/>
          <a:stretch/>
        </p:blipFill>
        <p:spPr>
          <a:xfrm>
            <a:off x="274680" y="182520"/>
            <a:ext cx="114300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to Make a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tune Teller or Cootie Catcher…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lide one to enter in your options (see slides 3-5 for ex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your Fortune Tel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out the Fortune Teller along the outside line (6 or 8 inch squ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printed side up, fold the square in half horizontally and then vertically, open the f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he square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 each corner over so they meet in the middle, do not let them overl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 the square folded, and flip the square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fold the corners into the center – make sure they do not overl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 the entire square in half and poke your thumbs and forefingers in under the fl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your fingers together so the Fortune Teller forms a peak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ready to PL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Cootie Catcher Directions"/>
          <p:cNvPicPr/>
          <p:nvPr/>
        </p:nvPicPr>
        <p:blipFill>
          <a:blip r:embed="rId1"/>
          <a:srcRect l="68389" t="49046" r="7194" b="0"/>
          <a:stretch/>
        </p:blipFill>
        <p:spPr>
          <a:xfrm>
            <a:off x="228600" y="228600"/>
            <a:ext cx="1143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deas for Using “Catchers” for Learn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t an action where the fortunes are usually written and use it as a PE activity generator (children might select a flap and get an activity like “run in place” or “hop on one foot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Language Arts, use words and have students open and close it the number of syllables in the word or spell the word rather than using numb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math put simple math facts instead of numbers – so “5+3” could be on a flap, “6+1” on another flap and students open and close the “catcher” according to the solution to the math fact selec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reading and writing, students create the fortunes and must write them concisely to fit in the space allotted. Students must read aloud the fortunes for all to h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ny subject, 8 facts or factoids can be written in the place of fortunes, or questions with their answers can be written there as we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writing, students could have a different “catcher” for selecting a character (with a wide collection of characters, one under each flap), another for selecting a setting or a predicament and then write or draw the story using these characters, settings or predica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ed Resources about “Catchers”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books and websites)</a:t>
            </a:r>
            <a:br>
              <a:rPr sz="28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otie Catchers are also called: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“Fortune Tellers”, “Nose Pinchers”, “Salt Cellars” and “Chatterboxes” </a:t>
            </a:r>
            <a:br>
              <a:rPr sz="1600"/>
            </a:b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elated resources about "Cootie Catchers"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hur and The Cootie Catcher (a book by Marc Brown) (reading level third gra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otie Catcher Book, by Klutz (a collection of “catchers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perfecttime.com/Cootie.Directions.pdf (step-by-step from a piece of paper, includes a mention of history of this "flexag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unorama.com/cooties.html (Why they are called "Cootie Catchers" is explained her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underland.ac.uk/~as0bgr/moscow.html (background, animated gifs and international versions - for adul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ady-made Online “Catchers” and Pattern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y-made “Catchers” and Patter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ityofmesa.org/police/kids/pdf/be_alert_catcher.pdf a safety-themed “catcher” to p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tammyyee.com/origamidragon.html (cool ready-to-print dragon patt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billybear4kids.com/holidays/halowen/CootieCatcher.html (Halloween themed “catcher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pbskids.org/arthur/print/cootiecatcher/index.html (Arthur-themed “catcher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thetoymaker.com/Toypages/16Cootiecatcher/16COOTIECATCHER.html (Valentine themed patt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lder students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paceplace.jpl.nasa.gov/en/kids/st6starfinder/st6starfinder.shtml (night sky and constellations in a "cootie catcher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yourpage.org/hanfortune.html (Hanukkah "fortune teller" with holiday-related cont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dev.sandiegozoo.org/kids/images/craft_cootie_catcher.pdf (conservation riddles on this “catcher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21:12:04Z</dcterms:created>
  <dc:creator>Gail Lovely</dc:creator>
  <dc:description/>
  <dc:language>en-US</dc:language>
  <cp:lastModifiedBy>critzius</cp:lastModifiedBy>
  <dcterms:modified xsi:type="dcterms:W3CDTF">2010-03-22T11:34:58Z</dcterms:modified>
  <cp:revision>22</cp:revision>
  <dc:subject/>
  <dc:title>fortune teller or cootie catcher</dc:title>
</cp:coreProperties>
</file>